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D61D-0426-4851-A1DA-720366C94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0D000-3DA0-443C-A343-F619C7F79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0A8498-2D42-4DE8-9D67-A0AF783833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79F14AA-7C9A-4712-8745-899F856C61F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51B7533-FDFC-402F-96B3-528F5B442F3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C1D9A34-D1D8-467E-88EE-EB8F5513C5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D34212-034B-4958-82C0-BC1C2A5904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791F1D-BBAE-4487-BCBA-D424AF90B4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0CB9D6-2E9E-43A1-ACBB-0CE874D844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38B08EE-794E-4E8E-BD31-6EDE9080FE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413C9E9-4395-4241-8BA8-5CD8E23158E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4C89A3B-544A-4A9B-8588-C505A6238E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AFEF1-9BC0-4BF5-BD37-67EB89766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44760C8-8AD8-4D98-9D76-6F04E1C27E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7C0EB9B-6D18-4478-B18D-85B6245C41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4EE868C-27C0-40BE-ACAD-0991CC9993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9623BB6-EA1A-48C1-B603-DA0E1D054E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28795FF-014A-49E2-BA0F-1F3E658D2D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DB5A9A-E456-47A6-A9BA-5DA00E695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6241180-0E01-4333-85B3-2F68FDD27B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A8C5BE-1238-496E-AD4A-95B0EA5BDC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2DE244-8C89-4487-868A-54608B48EC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3426966-5639-4302-A47F-D77F1920D7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563BB-B1A2-4C23-9BDE-E07237421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6A27904-30FC-475C-9537-67E23D1EE0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E43C46-F936-4573-BB35-CB4A281CD9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3F8A36-E010-44DE-87C9-BBDDBE639B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DE0324-55AB-4A1F-A6FA-0DA2C62049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37CEAC-E771-4AFF-A601-81F95B533E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B7B0E0-181A-4832-BA58-FC0B232DFA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A1CABF-2D0A-4E3F-97A3-5A62D09D2F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2783FA-C3F2-4062-9947-D397132FB6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22EC79-96A9-4E8E-A7B3-5240250E5E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A13A5-0956-4909-8494-CB111AC016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2D42F-F8A3-4963-8AC8-135E1A6E2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52ACAB-C2E5-4DF7-86E1-1F84450414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E614F3-7863-45A9-897A-57730AAF78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7E2D32-2E6F-4862-8DCF-0B3F148320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4BE1AE5-D2CD-46B2-AE10-67F69F2E2E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EC1B30-19AD-4239-803C-C971CE36B0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DF411EE-9FE5-4642-8339-FC3C43D6A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E2AFB11-B9AB-44F6-95E5-80F1A547C1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EAB1565-2C43-4D27-85D4-A15EDDE233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29D35A-3888-45B9-A0BA-B62BF827EB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2EB4345-7B0D-49FB-B60F-E5047A804C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4A685-456A-48D3-A5C8-8F6DA7687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5B4E997-6D15-46B9-B91B-0E79A8FF25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1AA2A0A-818A-49FF-B9B7-351D572A8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0006F1-03E5-467A-8D66-61E780B972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5E6D414-25CE-497D-BC66-B7C319614E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EFD8A29-E3D6-434B-8029-13B180B62F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2D27C-B90B-456F-BCD1-3E472CE69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F172E-C900-4630-9297-11F8F1876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E608B-A57D-442A-A8EA-E50D1800C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DB52B-5B7E-4987-848D-4232ECC2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0E813-E864-4D27-A4BF-EA0F19207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D746-1C18-4889-BE80-CF18271BC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C88DA-F843-47AE-A95B-95F4366D5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89861-3C57-4A65-8725-4B3565055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BF592-974B-4278-9D4E-C2F4D2F06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0FE1F-D381-4D14-A03F-691917851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E5B49-3799-4AC5-AA12-25890D8DC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5FB1FF-928C-4809-AFCE-13B8C18CB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B631F-938D-4A50-8D21-47AAFE6CC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F34AF-743F-48A3-9D32-75CE2B48E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408EA-EE98-4860-B711-09E21F6BE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04708-5877-4124-AE4B-9C8C44442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90DE-09CD-43E6-9D33-F5443494E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2A27B-85CB-4EC2-84CA-06C71AED8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FDAA7-FA18-41FA-971C-B445EBC3A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9CCD1-73BA-4258-B091-7D8547B16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28EBA-6312-44F0-8422-4991D5D52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3AD48-A918-4BD8-83D0-D3E3CC04E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DFB7D3-DB24-4203-86BF-A057B377C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9CAFD8-28AE-4558-988C-DBCC34736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813E93E-2642-43AB-8FDD-A6BDFFF529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CD45002-EC9D-437B-B818-CE085F765B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A85A449-E254-41A9-AA9F-F2CED35382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CF62-920A-4E93-9F1A-183AA1D20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CBE91FD-A64C-4E31-978A-B22AFE489B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10533DF-1181-4956-B89E-DFE09E3399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6627194-A553-4661-A75D-F08F408292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454B22B-0F5F-4813-AA34-A7D165E627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8BB298-8F45-450A-87C4-24DAAB19EB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1BFACC2-D9E4-4729-8EF9-089E17241C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17C34D0-28B8-4DF8-910B-1A42215877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235C582-5FE5-4385-BE3B-5CFE02EE6AC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EB489CC-5AF4-4692-8EF3-A4FF01241E8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268BFC-4CAA-4D5C-A4E1-839A7EE3D4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37B0-FED7-44C1-AA6D-2C38B9779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307E9-166C-4A88-8548-70F3A0819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7D56D-0DAF-411E-9B93-69CA37E8B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94670-2130-4B63-809B-B8510AAF1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63039-F90A-4282-9F3A-6ACE74223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2DD77-A818-4D1D-AA8F-5062B0DB8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67061-6EB0-43F0-87C1-9AAC9B8EB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2B25E-A5B4-4D95-84A8-6B05B19AE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79AC6-CA24-4F82-B655-0C60DF06C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4118D-085F-4B5E-85A4-EB27911C1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6EBFF-5AC1-4432-ADE4-601409444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D232-70F7-42F3-818D-B24E6680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3D4887-D744-46FE-A36E-39E02C1DA2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BC78A-7FB6-4910-A044-76DAC8DC6C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4D51E-7DFA-471D-AD91-2717F3003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9AF5E-92A1-4B81-AE69-E9A073958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885AB-3555-48F7-B1F7-7ED4061ACB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61EF3-CA77-49AB-8798-5FD6DDC1B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47B717-26F1-4698-9894-59D809AA1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5D3D2-B237-4988-924D-02FD5D4BD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E6776-51D0-4B19-B3A3-7AC2D7573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DFEE0-7A6E-4296-B22B-E65CC6858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9BEF-2EC5-4473-BC91-A82FC60D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DC17A-CC86-4965-8AAE-CE00464B9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16804F-9387-47A8-9EDD-1E3544EC4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8FB999-5471-4B8E-B9A9-9B0B8A0B9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77D82C-BA46-4ED9-B93D-6B58767869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4F3E8-4C81-4913-9690-277F119766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CA0026-F0DB-4BFB-A102-83636C0CE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CBA72-310E-4C15-A635-5954FF0C9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75A73D-06B2-4F7C-9AFC-194AB7F7F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938F7A-0965-4562-8A35-672378B6F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CDB6C-7706-489A-A6CD-CB408CDA2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2C05-C88D-411A-9FC2-A3552445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64908-C350-47CD-AF14-D3B6D2FF4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BB85A-CD06-4DB8-92CD-C03329CBB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D766A-19CC-49F2-8289-31B368786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7447F6-ED0C-45EF-85C1-869B0817CC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921E16-9D0A-4C7A-BDC3-2929E2A9C8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752CA5-EC98-42D2-8E0B-5A5ACCBA1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9523F3-AB47-4F35-8ABB-685EDBEE04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6750D-10C7-47AA-A63F-04478AD2B5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24C5E-0374-473F-B899-AF91837504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3156EB-6A3C-4365-BFA9-04F354DF1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47AF-1376-405A-A0FA-358DD941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8E7FF-60EC-4CF5-B617-B3876317D7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035FD-F993-4382-958A-8BE0F3357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C22EA-52EB-4E75-B93A-2E83F5454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008A9-E6C6-44EA-84E0-10D4DA9E0F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45C80-68FA-4F0C-8CA1-7AF066072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3DE0A6-A568-47EE-945B-22FBF38B14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086CF4-3C0A-4018-AEFF-42D65C967F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AE1A5CB-B1BE-446B-9A10-6D92580B2A2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7ED8A35-1265-4CA7-8005-B4DBA6EE1D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4C27852-5F1A-4928-ABD9-C60790D51D6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4B96-8210-4548-814D-BB356CAE07C5}"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6"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7"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9" name="25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0"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1" name="2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2"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3"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4"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11E3-5D02-4845-98DC-5BEA0A064D94}"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781F-3A13-4221-B1C5-9878CE51AE35}"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8" name="21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9"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0"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1" name="25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2" name="26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3" name="27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4" name="28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3C2F-8451-4294-AD79-6C14D7F225C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 name="21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23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 name="25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 name="27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 name="28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CDE0-9857-4419-934D-F23F580DAE45}"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3777-DA4A-4448-A043-BA3DE2A5E024}"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2" name="21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3" name="23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4" name="24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5" name="25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6" name="26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7"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8" name="28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9" name="29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0" name="30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89FF-6F38-4373-AB9B-2AA27584FA56}"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C104-B368-4CAE-97DA-012A5EE794C5}"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5" name="21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6"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7" name="24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8" name="25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9" name="26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0" name="27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2" name="29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3" name="30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46BC-7BF4-47C5-B102-C6CBA4C7642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29A1-8439-48B9-ADF7-2D408E5EF22C}"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7"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8"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9"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0" name="25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BD5E-7AF8-4B6F-9D3A-0F01D9EC358D}"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4"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5" name="23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7" name="25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8"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9" name="27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0"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1"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2"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AC9E-A412-4FBC-BD27-B653D2FF455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d16349"/>
                </a:solidFill>
                <a:latin typeface="Georgia"/>
              </a:rPr>
              <a:t>ORDENACIÓN DEL TERRITORIO Y PROTECCIÓN DEL MEDIO AMBIENTE</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Georgia"/>
              </a:rPr>
              <a:t>LA PROTECCIÓN DEL MEDIO NATURAL</a:t>
            </a:r>
            <a:endParaRPr b="0" lang="en-US" sz="3200" spc="-1" strike="noStrike">
              <a:solidFill>
                <a:srgbClr val="7b9899"/>
              </a:solidFill>
              <a:latin typeface="Georgia"/>
            </a:endParaRPr>
          </a:p>
        </p:txBody>
      </p:sp>
      <p:sp>
        <p:nvSpPr>
          <p:cNvPr id="624" name="Rectangle 4"/>
          <p:cNvSpPr/>
          <p:nvPr/>
        </p:nvSpPr>
        <p:spPr>
          <a:xfrm>
            <a:off x="928800" y="1641240"/>
            <a:ext cx="10396080" cy="2760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s espacios naturales protegidos son demarcaciones administrativ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ablecidas con la finalidad de favorecer la conservación de la naturaleza.</a:t>
            </a:r>
            <a:r>
              <a:rPr b="0" lang="es-ES_tradnl" sz="900" spc="-1" strike="noStrike">
                <a:solidFill>
                  <a:srgbClr val="000000"/>
                </a:solidFill>
                <a:latin typeface="Verdana"/>
              </a:rPr>
              <a:t>  </a:t>
            </a:r>
            <a:r>
              <a:rPr b="0" lang="es-ES_tradnl" sz="10300" spc="-1" strike="noStrike">
                <a:solidFill>
                  <a:srgbClr val="000000"/>
                </a:solidFill>
                <a:latin typeface="Verdana"/>
              </a:rPr>
              <a:t> </a:t>
            </a:r>
            <a:r>
              <a:rPr b="0" lang="es-ES_tradnl" sz="900" spc="-1" strike="noStrike">
                <a:solidFill>
                  <a:srgbClr val="000000"/>
                </a:solidFill>
                <a:latin typeface="Verdana"/>
              </a:rPr>
              <a:t>                                                            </a:t>
            </a:r>
            <a:endParaRPr b="0" lang="en-US" sz="900" spc="-1" strike="noStrike">
              <a:solidFill>
                <a:srgbClr val="000000"/>
              </a:solidFill>
              <a:latin typeface="Times New Roman"/>
            </a:endParaRPr>
          </a:p>
        </p:txBody>
      </p:sp>
      <p:pic>
        <p:nvPicPr>
          <p:cNvPr id="625" name="Picture 5" descr="ordesa"/>
          <p:cNvPicPr/>
          <p:nvPr/>
        </p:nvPicPr>
        <p:blipFill>
          <a:blip r:embed="rId1"/>
          <a:stretch/>
        </p:blipFill>
        <p:spPr>
          <a:xfrm>
            <a:off x="3348000" y="4219560"/>
            <a:ext cx="2448000" cy="16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2900" spc="-1" strike="noStrike">
                <a:solidFill>
                  <a:srgbClr val="7b9899"/>
                </a:solidFill>
                <a:latin typeface="Georgia"/>
              </a:rPr>
              <a:t>Categorías Internacionales de Conservación de la Naturaleza</a:t>
            </a:r>
            <a:br>
              <a:rPr sz="3600"/>
            </a:br>
            <a:endParaRPr b="0" lang="en-US" sz="2900" spc="-1" strike="noStrike">
              <a:solidFill>
                <a:srgbClr val="7b9899"/>
              </a:solidFill>
              <a:latin typeface="Georgia"/>
            </a:endParaRPr>
          </a:p>
        </p:txBody>
      </p:sp>
      <p:sp>
        <p:nvSpPr>
          <p:cNvPr id="627" name=""/>
          <p:cNvSpPr txBox="1"/>
          <p:nvPr/>
        </p:nvSpPr>
        <p:spPr>
          <a:xfrm>
            <a:off x="468360" y="2060640"/>
            <a:ext cx="8229600" cy="4525920"/>
          </a:xfrm>
          <a:prstGeom prst="rect">
            <a:avLst/>
          </a:prstGeom>
          <a:noFill/>
          <a:ln w="0">
            <a:noFill/>
          </a:ln>
        </p:spPr>
        <p:txBody>
          <a:bodyPr anchor="t">
            <a:normAutofit fontScale="96000"/>
          </a:bodyPr>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La Unión Internacional para la Conservación de la Naturaleza (UICN) en su Asamblea General del año 1994 estableció las siguientes categorías:</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 </a:t>
            </a:r>
            <a:r>
              <a:rPr b="0" lang="es-ES_tradnl" sz="1800" spc="-1" strike="noStrike">
                <a:solidFill>
                  <a:srgbClr val="ff3300"/>
                </a:solidFill>
                <a:latin typeface="Georgia"/>
              </a:rPr>
              <a:t>Reserva natural integral</a:t>
            </a:r>
            <a:r>
              <a:rPr b="0" lang="es-ES_tradnl" sz="1800" spc="-1" strike="noStrike">
                <a:solidFill>
                  <a:srgbClr val="000000"/>
                </a:solidFill>
                <a:latin typeface="Georgia"/>
              </a:rPr>
              <a:t>: espacio protegido gestionado principalmente con fines científicos o con fines de protección de la naturaleza.</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I.- </a:t>
            </a:r>
            <a:r>
              <a:rPr b="0" lang="es-ES_tradnl" sz="1800" spc="-1" strike="noStrike">
                <a:solidFill>
                  <a:srgbClr val="ff3300"/>
                </a:solidFill>
                <a:latin typeface="Georgia"/>
              </a:rPr>
              <a:t>Parque nacional</a:t>
            </a:r>
            <a:r>
              <a:rPr b="0" lang="es-ES_tradnl" sz="1800" spc="-1" strike="noStrike">
                <a:solidFill>
                  <a:srgbClr val="000000"/>
                </a:solidFill>
                <a:latin typeface="Georgia"/>
              </a:rPr>
              <a:t>: espacio protegido gestionado principalmente para la conservación de ecosistemas y el recreo.</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II.- </a:t>
            </a:r>
            <a:r>
              <a:rPr b="0" lang="es-ES_tradnl" sz="1800" spc="-1" strike="noStrike">
                <a:solidFill>
                  <a:srgbClr val="ff3300"/>
                </a:solidFill>
                <a:latin typeface="Georgia"/>
              </a:rPr>
              <a:t>Monumento natural</a:t>
            </a:r>
            <a:r>
              <a:rPr b="0" lang="es-ES_tradnl" sz="1800" spc="-1" strike="noStrike">
                <a:solidFill>
                  <a:srgbClr val="000000"/>
                </a:solidFill>
                <a:latin typeface="Georgia"/>
              </a:rPr>
              <a:t>: espacio protegido gestionado principalmente para la conservación de características naturales específicas.</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V.- </a:t>
            </a:r>
            <a:r>
              <a:rPr b="0" lang="es-ES_tradnl" sz="1800" spc="-1" strike="noStrike">
                <a:solidFill>
                  <a:srgbClr val="ff3300"/>
                </a:solidFill>
                <a:latin typeface="Georgia"/>
              </a:rPr>
              <a:t>Area de gestión de hábitat/especies</a:t>
            </a:r>
            <a:r>
              <a:rPr b="0" lang="es-ES_tradnl" sz="1800" spc="-1" strike="noStrike">
                <a:solidFill>
                  <a:srgbClr val="000000"/>
                </a:solidFill>
                <a:latin typeface="Georgia"/>
              </a:rPr>
              <a:t>: espacio protegido principalmente para la conservación, y con intervención a nivel de gestión.</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V.- </a:t>
            </a:r>
            <a:r>
              <a:rPr b="0" lang="es-ES_tradnl" sz="1800" spc="-1" strike="noStrike">
                <a:solidFill>
                  <a:srgbClr val="ff3300"/>
                </a:solidFill>
                <a:latin typeface="Georgia"/>
              </a:rPr>
              <a:t>Paisaje protegido terrestre/marino</a:t>
            </a:r>
            <a:r>
              <a:rPr b="0" lang="es-ES_tradnl" sz="1800" spc="-1" strike="noStrike">
                <a:solidFill>
                  <a:srgbClr val="000000"/>
                </a:solidFill>
                <a:latin typeface="Georgia"/>
              </a:rPr>
              <a:t>: espacio protegido gestionado principalmente para la conservación y protección de paisajes terrestres y marinos y el recreo.</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VI.- </a:t>
            </a:r>
            <a:r>
              <a:rPr b="0" lang="es-ES_tradnl" sz="1800" spc="-1" strike="noStrike">
                <a:solidFill>
                  <a:srgbClr val="ff3300"/>
                </a:solidFill>
                <a:latin typeface="Georgia"/>
              </a:rPr>
              <a:t>Area protegida con recursos gestionados</a:t>
            </a:r>
            <a:r>
              <a:rPr b="0" lang="es-ES_tradnl" sz="1800" spc="-1" strike="noStrike">
                <a:solidFill>
                  <a:srgbClr val="000000"/>
                </a:solidFill>
                <a:latin typeface="Georgia"/>
              </a:rPr>
              <a:t>: espacio protegido gestionado principalmente para la utilización sostenible de los recursos naturales.</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3300"/>
                </a:solidFill>
                <a:latin typeface="Georgia"/>
              </a:rPr>
              <a:t>Otras categorías internacionales de conservación de la naturaleza</a:t>
            </a:r>
            <a:br>
              <a:rPr sz="2500"/>
            </a:br>
            <a:endParaRPr b="0" lang="en-US" sz="25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ccb400"/>
                </a:solidFill>
                <a:latin typeface="Georgia"/>
              </a:rPr>
              <a:t>Reserva de la Biosfera</a:t>
            </a:r>
            <a:r>
              <a:rPr b="0" lang="es-ES_tradnl" sz="2700" spc="-1" strike="noStrike">
                <a:solidFill>
                  <a:srgbClr val="000000"/>
                </a:solidFill>
                <a:latin typeface="Georgia"/>
              </a:rPr>
              <a:t>. Cada Reserva conserva modelos de ecosistemas característicos de cada una de las regiones naturales del mundo. En las Reservas de la Biosfera tiene gran importancia la integración de la conservación de la naturaleza con las actividades humana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1" lang="es-ES_tradnl" sz="2400" spc="-1" strike="noStrike">
                <a:solidFill>
                  <a:srgbClr val="ccb400"/>
                </a:solidFill>
                <a:latin typeface="Georgia"/>
              </a:rPr>
              <a:t>Convenio Ramsar</a:t>
            </a:r>
            <a:r>
              <a:rPr b="1" lang="es-ES_tradnl" sz="2400" spc="-1" strike="noStrike">
                <a:solidFill>
                  <a:srgbClr val="000000"/>
                </a:solidFill>
                <a:latin typeface="Georgia"/>
              </a:rPr>
              <a:t>. </a:t>
            </a:r>
            <a:r>
              <a:rPr b="0" lang="es-ES_tradnl" sz="2400" spc="-1" strike="noStrike">
                <a:solidFill>
                  <a:srgbClr val="000000"/>
                </a:solidFill>
                <a:latin typeface="Georgia"/>
              </a:rPr>
              <a:t>Convenio sobre las Zonas Húmedas de Importancia Internacional, especialmente como hábitat de las aves acuáticas.</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1" lang="es-ES_tradnl" sz="2400" spc="-1" strike="noStrike">
                <a:solidFill>
                  <a:srgbClr val="ccb400"/>
                </a:solidFill>
                <a:latin typeface="Georgia"/>
              </a:rPr>
              <a:t>ZEPAs</a:t>
            </a:r>
            <a:r>
              <a:rPr b="1" lang="es-ES_tradnl" sz="2400" spc="-1" strike="noStrike">
                <a:solidFill>
                  <a:srgbClr val="000000"/>
                </a:solidFill>
                <a:latin typeface="Georgia"/>
              </a:rPr>
              <a:t>:</a:t>
            </a:r>
            <a:r>
              <a:rPr b="0" lang="es-ES_tradnl" sz="2400" spc="-1" strike="noStrike">
                <a:solidFill>
                  <a:srgbClr val="000000"/>
                </a:solidFill>
                <a:latin typeface="Georgia"/>
              </a:rPr>
              <a:t> Zonas de Especial Protección para las Aves. Creadas al amparo de la Directiva Aves de la Unión Europea. En España hay 139 ZEPAs que ocupan unos 24.000 km2.</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1" lang="es-ES_tradnl" sz="2400" spc="-1" strike="noStrike">
                <a:solidFill>
                  <a:srgbClr val="ccb400"/>
                </a:solidFill>
                <a:latin typeface="Georgia"/>
              </a:rPr>
              <a:t>ZECs</a:t>
            </a:r>
            <a:r>
              <a:rPr b="1" lang="es-ES_tradnl" sz="2400" spc="-1" strike="noStrike">
                <a:solidFill>
                  <a:srgbClr val="000000"/>
                </a:solidFill>
                <a:latin typeface="Georgia"/>
              </a:rPr>
              <a:t>: </a:t>
            </a:r>
            <a:r>
              <a:rPr b="0" lang="es-ES_tradnl" sz="2400" spc="-1" strike="noStrike">
                <a:solidFill>
                  <a:srgbClr val="000000"/>
                </a:solidFill>
                <a:latin typeface="Georgia"/>
              </a:rPr>
              <a:t>Zonas de Especial Protección. Se crean al amparo de la Directiva Hábitats de la Unión Europea. Las ZECs integrarán en el futuro la Red Natura 2000.</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5" descr="GRParquesNac"/>
          <p:cNvPicPr/>
          <p:nvPr/>
        </p:nvPicPr>
        <p:blipFill>
          <a:blip r:embed="rId1"/>
          <a:stretch/>
        </p:blipFill>
        <p:spPr>
          <a:xfrm>
            <a:off x="2666880" y="2033640"/>
            <a:ext cx="381024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3300"/>
                </a:solidFill>
                <a:latin typeface="Georgia"/>
              </a:rPr>
              <a:t>En España hay 26 Reservas de la Biosfera según los criterios del programa MAB de la UNESCO</a:t>
            </a:r>
            <a:endParaRPr b="0" lang="en-US" sz="2500" spc="-1" strike="noStrike">
              <a:solidFill>
                <a:srgbClr val="7b9899"/>
              </a:solidFill>
              <a:latin typeface="Georgia"/>
            </a:endParaRPr>
          </a:p>
        </p:txBody>
      </p:sp>
      <p:sp>
        <p:nvSpPr>
          <p:cNvPr id="634" name=""/>
          <p:cNvSpPr txBox="1"/>
          <p:nvPr/>
        </p:nvSpPr>
        <p:spPr>
          <a:xfrm>
            <a:off x="301320" y="1412640"/>
            <a:ext cx="8504280" cy="4686120"/>
          </a:xfrm>
          <a:prstGeom prst="rect">
            <a:avLst/>
          </a:prstGeom>
          <a:noFill/>
          <a:ln w="0">
            <a:noFill/>
          </a:ln>
        </p:spPr>
        <p:txBody>
          <a:bodyPr anchor="t">
            <a:normAutofit/>
          </a:bodyPr>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r>
              <a:rPr b="0" lang="es-ES_tradnl" sz="1200" spc="-1" strike="noStrike">
                <a:solidFill>
                  <a:srgbClr val="000000"/>
                </a:solidFill>
                <a:latin typeface="Georgia"/>
              </a:rPr>
              <a:t>1977 Grazalema </a:t>
            </a:r>
            <a:br>
              <a:rPr sz="1200"/>
            </a:br>
            <a:r>
              <a:rPr b="0" lang="es-ES_tradnl" sz="1200" spc="-1" strike="noStrike">
                <a:solidFill>
                  <a:srgbClr val="000000"/>
                </a:solidFill>
                <a:latin typeface="Georgia"/>
              </a:rPr>
              <a:t>1977 Ordesa-Viñamala </a:t>
            </a:r>
            <a:br>
              <a:rPr sz="1200"/>
            </a:br>
            <a:r>
              <a:rPr b="0" lang="es-ES_tradnl" sz="1200" spc="-1" strike="noStrike">
                <a:solidFill>
                  <a:srgbClr val="000000"/>
                </a:solidFill>
                <a:latin typeface="Georgia"/>
              </a:rPr>
              <a:t>1978 Montseny </a:t>
            </a:r>
            <a:br>
              <a:rPr sz="1200"/>
            </a:br>
            <a:r>
              <a:rPr b="0" lang="es-ES_tradnl" sz="1200" spc="-1" strike="noStrike">
                <a:solidFill>
                  <a:srgbClr val="000000"/>
                </a:solidFill>
                <a:latin typeface="Georgia"/>
              </a:rPr>
              <a:t>1980 Doñana </a:t>
            </a:r>
            <a:br>
              <a:rPr sz="1200"/>
            </a:br>
            <a:r>
              <a:rPr b="0" lang="es-ES_tradnl" sz="1200" spc="-1" strike="noStrike">
                <a:solidFill>
                  <a:srgbClr val="000000"/>
                </a:solidFill>
                <a:latin typeface="Georgia"/>
              </a:rPr>
              <a:t>1980 Mancha Húmeda </a:t>
            </a:r>
            <a:br>
              <a:rPr sz="1200"/>
            </a:br>
            <a:r>
              <a:rPr b="0" lang="es-ES_tradnl" sz="1200" spc="-1" strike="noStrike">
                <a:solidFill>
                  <a:srgbClr val="000000"/>
                </a:solidFill>
                <a:latin typeface="Georgia"/>
              </a:rPr>
              <a:t>1983 Sierras de Cazorla y Segura </a:t>
            </a:r>
            <a:br>
              <a:rPr sz="1200"/>
            </a:br>
            <a:r>
              <a:rPr b="0" lang="es-ES_tradnl" sz="1200" spc="-1" strike="noStrike">
                <a:solidFill>
                  <a:srgbClr val="000000"/>
                </a:solidFill>
                <a:latin typeface="Georgia"/>
              </a:rPr>
              <a:t>1983 Marismas del Odiel </a:t>
            </a:r>
            <a:br>
              <a:rPr sz="1200"/>
            </a:br>
            <a:r>
              <a:rPr b="0" lang="es-ES_tradnl" sz="1200" spc="-1" strike="noStrike">
                <a:solidFill>
                  <a:srgbClr val="000000"/>
                </a:solidFill>
                <a:latin typeface="Georgia"/>
              </a:rPr>
              <a:t>1983-1997-2002 La Palma </a:t>
            </a:r>
            <a:br>
              <a:rPr sz="1200"/>
            </a:br>
            <a:r>
              <a:rPr b="0" lang="es-ES_tradnl" sz="1200" spc="-1" strike="noStrike">
                <a:solidFill>
                  <a:srgbClr val="000000"/>
                </a:solidFill>
                <a:latin typeface="Georgia"/>
              </a:rPr>
              <a:t>1984 Urdaibai </a:t>
            </a:r>
            <a:br>
              <a:rPr sz="1200"/>
            </a:br>
            <a:r>
              <a:rPr b="0" lang="es-ES_tradnl" sz="1200" spc="-1" strike="noStrike">
                <a:solidFill>
                  <a:srgbClr val="000000"/>
                </a:solidFill>
                <a:latin typeface="Georgia"/>
              </a:rPr>
              <a:t>1986 Sierra Nevada </a:t>
            </a:r>
            <a:br>
              <a:rPr sz="1200"/>
            </a:br>
            <a:r>
              <a:rPr b="0" lang="es-ES_tradnl" sz="1200" spc="-1" strike="noStrike">
                <a:solidFill>
                  <a:srgbClr val="000000"/>
                </a:solidFill>
                <a:latin typeface="Georgia"/>
              </a:rPr>
              <a:t>1992 Río Manzanares (Cuenca Alta) </a:t>
            </a:r>
            <a:br>
              <a:rPr sz="1200"/>
            </a:br>
            <a:r>
              <a:rPr b="0" lang="es-ES_tradnl" sz="1200" spc="-1" strike="noStrike">
                <a:solidFill>
                  <a:srgbClr val="000000"/>
                </a:solidFill>
                <a:latin typeface="Georgia"/>
              </a:rPr>
              <a:t>1993 Lanzarote </a:t>
            </a:r>
            <a:br>
              <a:rPr sz="1200"/>
            </a:br>
            <a:r>
              <a:rPr b="0" lang="es-ES_tradnl" sz="1200" spc="-1" strike="noStrike">
                <a:solidFill>
                  <a:srgbClr val="000000"/>
                </a:solidFill>
                <a:latin typeface="Georgia"/>
              </a:rPr>
              <a:t>1993 Menorca </a:t>
            </a:r>
            <a:br>
              <a:rPr sz="1200"/>
            </a:br>
            <a:r>
              <a:rPr b="0" lang="es-ES_tradnl" sz="1200" spc="-1" strike="noStrike">
                <a:solidFill>
                  <a:srgbClr val="000000"/>
                </a:solidFill>
                <a:latin typeface="Georgia"/>
              </a:rPr>
              <a:t>1995 Sierra de las Nieves y entorno </a:t>
            </a:r>
            <a:br>
              <a:rPr sz="1200"/>
            </a:br>
            <a:r>
              <a:rPr b="0" lang="es-ES_tradnl" sz="1200" spc="-1" strike="noStrike">
                <a:solidFill>
                  <a:srgbClr val="000000"/>
                </a:solidFill>
                <a:latin typeface="Georgia"/>
              </a:rPr>
              <a:t>1997 Cabo de Gata-Níjar </a:t>
            </a:r>
            <a:br>
              <a:rPr sz="1200"/>
            </a:br>
            <a:r>
              <a:rPr b="0" lang="es-ES_tradnl" sz="1200" spc="-1" strike="noStrike">
                <a:solidFill>
                  <a:srgbClr val="000000"/>
                </a:solidFill>
                <a:latin typeface="Georgia"/>
              </a:rPr>
              <a:t>2000 Bardenas Reales </a:t>
            </a:r>
            <a:br>
              <a:rPr sz="1200"/>
            </a:br>
            <a:r>
              <a:rPr b="0" lang="es-ES_tradnl" sz="1200" spc="-1" strike="noStrike">
                <a:solidFill>
                  <a:srgbClr val="000000"/>
                </a:solidFill>
                <a:latin typeface="Georgia"/>
              </a:rPr>
              <a:t>2000 Isla de El Hierro </a:t>
            </a:r>
            <a:br>
              <a:rPr sz="1200"/>
            </a:br>
            <a:r>
              <a:rPr b="0" lang="es-ES_tradnl" sz="1200" spc="-1" strike="noStrike">
                <a:solidFill>
                  <a:srgbClr val="000000"/>
                </a:solidFill>
                <a:latin typeface="Georgia"/>
              </a:rPr>
              <a:t>2000-2003 Muniellos (Gran Cantáb.) </a:t>
            </a:r>
            <a:br>
              <a:rPr sz="1200"/>
            </a:br>
            <a:r>
              <a:rPr b="0" lang="es-ES_tradnl" sz="1200" spc="-1" strike="noStrike">
                <a:solidFill>
                  <a:srgbClr val="000000"/>
                </a:solidFill>
                <a:latin typeface="Georgia"/>
              </a:rPr>
              <a:t>2000 Somiedo </a:t>
            </a:r>
            <a:br>
              <a:rPr sz="1200"/>
            </a:br>
            <a:r>
              <a:rPr b="0" lang="es-ES_tradnl" sz="1200" spc="-1" strike="noStrike">
                <a:solidFill>
                  <a:srgbClr val="000000"/>
                </a:solidFill>
                <a:latin typeface="Georgia"/>
              </a:rPr>
              <a:t>2001 Redes </a:t>
            </a:r>
            <a:br>
              <a:rPr sz="1200"/>
            </a:br>
            <a:r>
              <a:rPr b="0" lang="es-ES_tradnl" sz="1200" spc="-1" strike="noStrike">
                <a:solidFill>
                  <a:srgbClr val="000000"/>
                </a:solidFill>
                <a:latin typeface="Georgia"/>
              </a:rPr>
              <a:t>2002 Dehesas de Sierra Morena </a:t>
            </a:r>
            <a:br>
              <a:rPr sz="1200"/>
            </a:br>
            <a:r>
              <a:rPr b="0" lang="es-ES_tradnl" sz="1200" spc="-1" strike="noStrike">
                <a:solidFill>
                  <a:srgbClr val="000000"/>
                </a:solidFill>
                <a:latin typeface="Georgia"/>
              </a:rPr>
              <a:t>2002 Terras do Miño </a:t>
            </a:r>
            <a:br>
              <a:rPr sz="1200"/>
            </a:br>
            <a:r>
              <a:rPr b="0" lang="es-ES_tradnl" sz="1200" spc="-1" strike="noStrike">
                <a:solidFill>
                  <a:srgbClr val="000000"/>
                </a:solidFill>
                <a:latin typeface="Georgia"/>
              </a:rPr>
              <a:t>2003 Valle de Laciana (Gran Cant.) </a:t>
            </a:r>
            <a:br>
              <a:rPr sz="1200"/>
            </a:br>
            <a:r>
              <a:rPr b="0" lang="es-ES_tradnl" sz="1200" spc="-1" strike="noStrike">
                <a:solidFill>
                  <a:srgbClr val="000000"/>
                </a:solidFill>
                <a:latin typeface="Georgia"/>
              </a:rPr>
              <a:t>2003 Picos de Europa (Gran Cant.) </a:t>
            </a:r>
            <a:br>
              <a:rPr sz="1200"/>
            </a:br>
            <a:r>
              <a:rPr b="0" lang="es-ES_tradnl" sz="1200" spc="-1" strike="noStrike">
                <a:solidFill>
                  <a:srgbClr val="000000"/>
                </a:solidFill>
                <a:latin typeface="Georgia"/>
              </a:rPr>
              <a:t>2003 Monfragüe </a:t>
            </a:r>
            <a:br>
              <a:rPr sz="1200"/>
            </a:br>
            <a:r>
              <a:rPr b="0" lang="es-ES_tradnl" sz="1200" spc="-1" strike="noStrike">
                <a:solidFill>
                  <a:srgbClr val="000000"/>
                </a:solidFill>
                <a:latin typeface="Georgia"/>
              </a:rPr>
              <a:t>2003 Valles del Jubera, Leza, Cidacos y Alhama (Gran Cantábrica) </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Georgia"/>
              </a:rPr>
              <a:t>Ordenación del territorio</a:t>
            </a:r>
            <a:endParaRPr b="0" lang="en-US" sz="24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En nuestro siglo se han originado grandes desórdenes territoriales por no saber valorar en su justa medida los fines sociales, ecológicos y culturales del progreso.</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Estos desequilibrios territoriales vienen provocados por desigualdades (en cuanto a calidad de vida) entre los habitantes de distintas zona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Dichos desequilibrios pueden ser:</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	</a:t>
            </a:r>
            <a:r>
              <a:rPr b="0" lang="es-ES_tradnl" sz="2000" spc="-1" strike="noStrike">
                <a:solidFill>
                  <a:srgbClr val="000000"/>
                </a:solidFill>
                <a:latin typeface="Georgia"/>
              </a:rPr>
              <a:t>* </a:t>
            </a:r>
            <a:r>
              <a:rPr b="0" lang="es-ES_tradnl" sz="2000" spc="-1" strike="noStrike">
                <a:solidFill>
                  <a:srgbClr val="ccb400"/>
                </a:solidFill>
                <a:latin typeface="Georgia"/>
              </a:rPr>
              <a:t>Horizontales</a:t>
            </a:r>
            <a:r>
              <a:rPr b="0" lang="es-ES_tradnl" sz="2000" spc="-1" strike="noStrike">
                <a:solidFill>
                  <a:srgbClr val="000000"/>
                </a:solidFill>
                <a:latin typeface="Georgia"/>
              </a:rPr>
              <a:t>: comarcas pobres por falta de inversiones, áreas deprimidas por la despoblación, áreas de montaña.</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	</a:t>
            </a:r>
            <a:r>
              <a:rPr b="0" lang="es-ES_tradnl" sz="2000" spc="-1" strike="noStrike">
                <a:solidFill>
                  <a:srgbClr val="000000"/>
                </a:solidFill>
                <a:latin typeface="Georgia"/>
              </a:rPr>
              <a:t>* </a:t>
            </a:r>
            <a:r>
              <a:rPr b="0" lang="es-ES_tradnl" sz="2000" spc="-1" strike="noStrike">
                <a:solidFill>
                  <a:srgbClr val="ccb400"/>
                </a:solidFill>
                <a:latin typeface="Georgia"/>
              </a:rPr>
              <a:t>Verticales</a:t>
            </a:r>
            <a:r>
              <a:rPr b="0" lang="es-ES_tradnl" sz="2000" spc="-1" strike="noStrike">
                <a:solidFill>
                  <a:srgbClr val="000000"/>
                </a:solidFill>
                <a:latin typeface="Georgia"/>
              </a:rPr>
              <a:t>: áreas congestionadas con problemas por la degradación del medio, malos usos del suelo, mal planificación de actividades económicas o infraestructura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Georgia"/>
              </a:rPr>
              <a:t>Objetivo de la ordenación del territorio</a:t>
            </a:r>
            <a:r>
              <a:rPr b="0" lang="es-ES_tradnl" sz="3600" spc="-1" strike="noStrike">
                <a:solidFill>
                  <a:srgbClr val="7b9899"/>
                </a:solidFill>
                <a:latin typeface="Georgia"/>
              </a:rPr>
              <a:t>:</a:t>
            </a:r>
            <a:endParaRPr b="0" lang="en-US" sz="36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eorgia"/>
              </a:rPr>
              <a:t>   </a:t>
            </a:r>
            <a:r>
              <a:rPr b="0" lang="es-ES_tradnl" sz="2700" spc="-1" strike="noStrike">
                <a:solidFill>
                  <a:srgbClr val="000000"/>
                </a:solidFill>
                <a:latin typeface="Georgia"/>
              </a:rPr>
              <a:t>Conocer las características del medio y valorar los recursos naturales con el fin de ordenar los posibles usos del mismo, estableciendo restricciones o prioridades, de modo que el uso del territorio sea el más adecuado a sus características y permita la conservación de los recurso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300" spc="-1" strike="noStrike">
              <a:solidFill>
                <a:srgbClr val="7b9899"/>
              </a:solidFill>
              <a:latin typeface="Georgia"/>
            </a:endParaRPr>
          </a:p>
        </p:txBody>
      </p:sp>
      <p:sp>
        <p:nvSpPr>
          <p:cNvPr id="613" name=""/>
          <p:cNvSpPr txBox="1"/>
          <p:nvPr/>
        </p:nvSpPr>
        <p:spPr>
          <a:xfrm>
            <a:off x="468360" y="1052640"/>
            <a:ext cx="8229600" cy="452592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eorgia"/>
              </a:rPr>
              <a:t>Para realizar una ordenación del territorio  hay que valorar la </a:t>
            </a:r>
            <a:r>
              <a:rPr b="0" lang="es-ES_tradnl" sz="2700" spc="-1" strike="noStrike">
                <a:solidFill>
                  <a:srgbClr val="ff3300"/>
                </a:solidFill>
                <a:latin typeface="Georgia"/>
              </a:rPr>
              <a:t>capacidad de acogida</a:t>
            </a:r>
            <a:r>
              <a:rPr b="0" lang="es-ES_tradnl" sz="2700" spc="-1" strike="noStrike">
                <a:solidFill>
                  <a:srgbClr val="000000"/>
                </a:solidFill>
                <a:latin typeface="Georgia"/>
              </a:rPr>
              <a:t> de cada zona o </a:t>
            </a:r>
            <a:r>
              <a:rPr b="0" lang="es-ES_tradnl" sz="2700" spc="-1" strike="noStrike">
                <a:solidFill>
                  <a:srgbClr val="ff3300"/>
                </a:solidFill>
                <a:latin typeface="Georgia"/>
              </a:rPr>
              <a:t>Unidad Ambiental</a:t>
            </a:r>
            <a:r>
              <a:rPr b="0" lang="es-ES_tradnl" sz="2700" spc="-1" strike="noStrike">
                <a:solidFill>
                  <a:srgbClr val="000000"/>
                </a:solidFill>
                <a:latin typeface="Georgia"/>
              </a:rPr>
              <a:t>.</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eorgia"/>
              </a:rPr>
              <a:t>Para establecer estas unidades ambientales hay que partir de sus elementos más relevantes como: geomorfología, cubierta vegetal, usos del suel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3300"/>
                </a:solidFill>
                <a:latin typeface="Georgia"/>
              </a:rPr>
              <a:t>La ordenación del territorio se apoya en dos conceptos:</a:t>
            </a:r>
            <a:br>
              <a:rPr sz="2500"/>
            </a:br>
            <a:endParaRPr b="0" lang="en-US" sz="25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a </a:t>
            </a:r>
            <a:r>
              <a:rPr b="0" lang="es-ES_tradnl" sz="2400" spc="-1" strike="noStrike">
                <a:solidFill>
                  <a:srgbClr val="ccb400"/>
                </a:solidFill>
                <a:latin typeface="Georgia"/>
              </a:rPr>
              <a:t>aptitud o vocación del territorio</a:t>
            </a:r>
            <a:r>
              <a:rPr b="0" lang="es-ES_tradnl" sz="2400" spc="-1" strike="noStrike">
                <a:solidFill>
                  <a:srgbClr val="000000"/>
                </a:solidFill>
                <a:latin typeface="Georgia"/>
              </a:rPr>
              <a:t>: valorar para que actividades puede ser destinado un área determinada. Se puede realizar una </a:t>
            </a:r>
            <a:r>
              <a:rPr b="0" i="1" lang="es-ES_tradnl" sz="2400" spc="-1" strike="noStrike" u="sng">
                <a:solidFill>
                  <a:srgbClr val="000000"/>
                </a:solidFill>
                <a:uFillTx/>
                <a:latin typeface="Georgia"/>
              </a:rPr>
              <a:t>matriz de acogida.</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b400"/>
                </a:solidFill>
                <a:latin typeface="Georgia"/>
              </a:rPr>
              <a:t>El impacto</a:t>
            </a:r>
            <a:r>
              <a:rPr b="0" lang="es-ES_tradnl" sz="2400" spc="-1" strike="noStrike">
                <a:solidFill>
                  <a:srgbClr val="000000"/>
                </a:solidFill>
                <a:latin typeface="Georgia"/>
              </a:rPr>
              <a:t>, es decir, maximizar la aptitud y minimizar el impacto. Nuestra legislación define </a:t>
            </a:r>
            <a:r>
              <a:rPr b="0" i="1" lang="es-ES_tradnl" sz="2400" spc="-1" strike="noStrike">
                <a:solidFill>
                  <a:srgbClr val="ff3300"/>
                </a:solidFill>
                <a:latin typeface="Georgia"/>
              </a:rPr>
              <a:t>Evaluación de Impacto Ambiental (EIA)</a:t>
            </a:r>
            <a:r>
              <a:rPr b="0" lang="es-ES_tradnl" sz="2400" spc="-1" strike="noStrike">
                <a:solidFill>
                  <a:srgbClr val="000000"/>
                </a:solidFill>
                <a:latin typeface="Georgia"/>
              </a:rPr>
              <a:t> como el conjunto de estudios y sistemas técnicos que permiten estimar los efectos que la ejecución de un determinado proyecto, obra o actividad causa sobre el medio ambient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br>
              <a:rPr sz="2900"/>
            </a:br>
            <a:br>
              <a:rPr sz="2900"/>
            </a:br>
            <a:br>
              <a:rPr sz="2900"/>
            </a:br>
            <a:br>
              <a:rPr sz="2900"/>
            </a:br>
            <a:br>
              <a:rPr sz="2900"/>
            </a:br>
            <a:br>
              <a:rPr sz="2900"/>
            </a:br>
            <a:br>
              <a:rPr sz="2900"/>
            </a:br>
            <a:br>
              <a:rPr sz="2900"/>
            </a:br>
            <a:br>
              <a:rPr sz="2900"/>
            </a:br>
            <a:r>
              <a:rPr b="0" lang="es-ES_tradnl" sz="2900" spc="-1" strike="noStrike">
                <a:solidFill>
                  <a:srgbClr val="ff3300"/>
                </a:solidFill>
                <a:latin typeface="Georgia"/>
              </a:rPr>
              <a:t>En los impactos ambientales hay que tener en cuenta:</a:t>
            </a:r>
            <a:endParaRPr b="0" lang="en-US" sz="29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Signo</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Intensidad</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Extensión</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M</a:t>
            </a:r>
            <a:r>
              <a:rPr b="1" lang="es-ES_tradnl" sz="2800" spc="-1" strike="noStrike">
                <a:solidFill>
                  <a:srgbClr val="000000"/>
                </a:solidFill>
                <a:latin typeface="Georgia"/>
              </a:rPr>
              <a:t>omento</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ersistencia</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Recuperación</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a:t>
            </a:r>
            <a:r>
              <a:rPr b="1" lang="es-ES_tradnl" sz="2800" spc="-1" strike="noStrike">
                <a:solidFill>
                  <a:srgbClr val="000000"/>
                </a:solidFill>
                <a:latin typeface="Georgia"/>
              </a:rPr>
              <a:t>uma de efectos</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eriodicidad</a:t>
            </a:r>
            <a:r>
              <a:rPr b="0" lang="es-ES_tradnl"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4" descr="15-1Eval"/>
          <p:cNvPicPr/>
          <p:nvPr/>
        </p:nvPicPr>
        <p:blipFill>
          <a:blip r:embed="rId1"/>
          <a:stretch/>
        </p:blipFill>
        <p:spPr>
          <a:xfrm>
            <a:off x="928800" y="476280"/>
            <a:ext cx="745956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Georgia"/>
              </a:rPr>
              <a:t>Fases en la elaboración de una EIA</a:t>
            </a:r>
            <a:endParaRPr b="0" lang="en-US" sz="28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escripción del proyecto.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efinición del ámbito del estudio.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Inventario y Valoración Ambiental, así como síntesis (matriz de cruce).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Previsión de Impacto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valuación de Impacto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mparación de Alternativa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Medidas Correctora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Impactos Residuale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Programa de Vigilancia y Control. </a:t>
            </a:r>
            <a:endParaRPr b="0" lang="en-US" sz="24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Memoria de Síntesis (Resumen).</a:t>
            </a:r>
            <a:r>
              <a:rPr b="0" lang="es-ES_tradnl"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1" name=""/>
          <p:cNvGraphicFramePr/>
          <p:nvPr/>
        </p:nvGraphicFramePr>
        <p:xfrm>
          <a:off x="0" y="-538200"/>
          <a:ext cx="9144000" cy="184320"/>
        </p:xfrm>
        <a:graphic>
          <a:graphicData uri="http://schemas.openxmlformats.org/drawingml/2006/table">
            <a:tbl>
              <a:tblPr/>
              <a:tblGrid>
                <a:gridCol w="9144000"/>
              </a:tblGrid>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Importancia</a:t>
                      </a:r>
                      <a:endParaRPr b="0" lang="en-US" sz="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622" name="Picture 25" descr="matrizurbanizacion"/>
          <p:cNvPicPr/>
          <p:nvPr/>
        </p:nvPicPr>
        <p:blipFill>
          <a:blip r:embed="rId1"/>
          <a:stretch/>
        </p:blipFill>
        <p:spPr>
          <a:xfrm>
            <a:off x="1476360" y="-171360"/>
            <a:ext cx="5829480" cy="770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7:24:26Z</dcterms:created>
  <dc:creator>Inma</dc:creator>
  <dc:description/>
  <dc:language>en-US</dc:language>
  <cp:lastModifiedBy>inma</cp:lastModifiedBy>
  <dcterms:modified xsi:type="dcterms:W3CDTF">2012-04-19T17:03:13Z</dcterms:modified>
  <cp:revision>13</cp:revision>
  <dc:subject/>
  <dc:title>ORDENACIÓN DEL TERRITORIO Y PROTECCIÓN DEL MEDIO AMBIENTE</dc:title>
</cp:coreProperties>
</file>